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6.jpeg" ContentType="image/jpe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8242-FB48-424E-83BD-0A3523CE72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FCBD-E4F6-4381-9E2E-32D8A618D4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1FBB-08E8-4B9D-B6EE-45F6EF41DF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984C-5C79-4C2B-B640-D9107E7876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6FD1-FE9F-4321-84A5-1B9D2E44A8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8AF6-D0FE-49DB-BBD6-F63953BF00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B95D-3A3E-487D-B70D-EBAE9A74555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5F02-47AC-495A-9127-D2C807C9F5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E668-F74F-4F90-B1D9-9F7497C9FD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1254-A29E-419E-BFE5-FFBBE49793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024A-4DFD-46F3-9E50-75DF0F35761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7251-141D-4ED5-B19F-7140C13B42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2146-9BD4-4638-B179-4E997A7C72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5995-6C01-41B9-A872-C5DA01518C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0A1B-3CC1-402A-9B68-30CA3E9C0D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4430-80C5-44F5-BA00-8031E6C145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E3912-E867-4FDA-B6E4-CB02AD4B4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EBCD2-A04F-4248-9F79-FC539D28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39DD4-E05B-4BF4-B6EC-578AD7F96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37B0C-002D-4038-A89B-0136B2E88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2F77F-5C46-46FC-8E74-B2821EB8F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92669-0AD8-4F76-A529-0F8DBD083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4498A-CA58-4679-B693-6E723056A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0104D-20F7-4535-9598-629E4B9CD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4CD37-C159-4369-B30E-151015931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645E0-CEDF-4BC5-A639-E69B55B3E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BCF27-3B1B-49BA-B3C7-7801AA37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84EA1-3770-4C1B-8C0A-AD87EF1A3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849A3-4AD8-41ED-9FD4-034120D14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18B62-CA38-4CB2-8156-CCEE70EB7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8289A-01DB-4A6D-9A2C-9C51E8401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7CF12-4103-465B-8A94-C1FB74ADB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93FA7-E583-4D05-86B2-12AE46226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35014B-0F83-4B49-B7C4-850400056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A21A2-DF6F-4CB2-9A54-99D813198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9731F-F27D-460A-80F9-9F1C0F20C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13867-0D02-484A-BAEA-1A88FD800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48942-1A88-4CFE-8F3D-304BD86D4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12C10-F6D6-4594-A570-4002832E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3BAF6D-08CB-4012-9293-3B33CB4DC3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5FB02-6685-4B3B-BE28-F07E2C068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33CAA-0EB7-4B66-B053-C6AE905D2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85197-0A6D-4E7C-9101-BFC6BB46C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B4C3A2-1641-4223-B6CB-67B8F9C19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3FD39-D143-4CF7-9E11-AE7094E59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15C01E-C6DF-4C27-B996-7DE0C4D611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404509-BB4B-402F-915B-6FEBC90B3B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51023-69B4-4796-9757-E43F2A4EA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1EA0F-2FDA-44D6-8397-5A6A56848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ADA23-8DCA-4D9F-A940-614DC463C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51EE88-24A1-46BA-9048-1E006C6CE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70D79-164C-4E8E-BDA8-7398FCE45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EF086-C6B2-4262-A34D-A1EF127A8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B332F-B140-4149-9402-A3881D335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AEABF-C661-4D0E-8A4C-9A59984CB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7D558-D5D3-470E-A02F-540D68496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0953A-9273-412D-A23E-0AC804EE3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0D426-3959-4A6A-9C8D-E7C375EBE3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4F5E16-2ED8-404A-B5BE-4AE8927C3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A1936B-5C0A-4C17-869F-7B26BCD4C9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0A292-4548-48CF-A5AA-789DBED3A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2C714C-16CF-4EFA-8E86-B89F45D445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06D76-9F2E-4291-9815-D2C4153D73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EBE51-0FC9-42AD-870D-55CAA619C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9408A-9E0E-4C2A-961B-D0C1230FE7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E9698F-D4EC-4786-A3F9-EBADB7FBB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AD4D74-4624-4257-B4B0-CF0920191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3B9C1-0071-41CB-B856-3433348EE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C4740-CD7F-4D33-A482-46BF4A269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5FFF0-A0A2-4EB5-B299-FF14757D25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B71A1E-33D2-4373-B40F-D7DE895ED9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A94F8-0DDC-42DC-A496-6564B299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78FF67-2D6E-44FB-ACB7-A77134FEAD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1C080B-17E2-410B-852F-5D7767E33E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85E6BC-C16E-4BCD-ADE5-ADB17EA312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17179D-682C-4AB6-A1B2-16D59F87CE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1881D-CEA6-4373-8CE5-A26A3C3D7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9B600C-D5E0-44B9-9786-B9DA9B5DDB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8513D-FB4B-450B-BD6E-454505D5A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8123A-D201-4160-A9B9-34DDFC1FE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E83D0-3B25-4A0E-87FE-57C98C8A8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5BCEEF-E40D-420C-BEAA-38129E4FE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0467-A91A-4854-9A04-7D16FFCB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DC157-D853-4B14-8C66-E1A33A4CB9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55AA96-A14A-4F12-805A-0C9DB439D0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B580B9-85EB-4955-ABD6-F07044BF2C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D1CA71-F6A6-4641-A4B8-4FE40610D5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A250BB-FA4E-49A2-B5BA-34EB2550A2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60AA51-1743-46A5-8385-A3D6BD9E56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3B06A-DFCF-477F-9BC8-9C04CAE96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92F1A9-2272-4FC2-BEE0-536AAF9623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B5ED20-4FC0-47D5-B75B-97FF3BCCF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20E761-D925-488B-A1E8-7D818FA0B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0431E-EFD6-4B3E-856B-918109016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20286-C5E7-4406-A7D4-46DE10B2B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97166-9970-4564-869A-E68A07A7E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D0764-4FAA-4CC2-A6F4-FAEC70FF2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2B09F1-3156-494E-AB90-2723AC4F1E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5A4DDE-7948-4E0C-8A99-A2C7B9BCD8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0415-A197-4532-99CA-893942262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4AEB-93D4-492B-B2DB-EF6233BCA6A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D94D-E7CB-47EE-B297-81DB57BF072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BBB3-E278-4117-94C1-6F06C9EBAF5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1194-10E1-4C3E-AAD0-C55726768D8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7A71-59A2-4FF8-AC27-AB088489CA5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1845-AEFD-4B9D-8C34-8250191BE45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0295-063B-40F7-A83C-F5C48430ECB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PSC 20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4" name="Picture 2" descr=""/>
          <p:cNvPicPr/>
          <p:nvPr/>
        </p:nvPicPr>
        <p:blipFill>
          <a:blip r:embed="rId1"/>
          <a:stretch/>
        </p:blipFill>
        <p:spPr>
          <a:xfrm>
            <a:off x="2314440" y="947880"/>
            <a:ext cx="4515120" cy="49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1</a:t>
            </a:r>
            <a:endParaRPr b="0" lang="en-US" sz="4000" spc="-1" strike="noStrike">
              <a:solidFill>
                <a:srgbClr val="c1eeff"/>
              </a:solidFill>
              <a:latin typeface="Consolas"/>
            </a:endParaRPr>
          </a:p>
        </p:txBody>
      </p:sp>
      <p:sp>
        <p:nvSpPr>
          <p:cNvPr id="40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7" name="Picture 2" descr="http://wiki.ucalgary.ca/images/0/0c/Problemstatement1.JPG"/>
          <p:cNvPicPr/>
          <p:nvPr/>
        </p:nvPicPr>
        <p:blipFill>
          <a:blip r:embed="rId1"/>
          <a:stretch/>
        </p:blipFill>
        <p:spPr>
          <a:xfrm>
            <a:off x="533520" y="2209680"/>
            <a:ext cx="819144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2" descr="http://wiki.ucalgary.ca/images/6/6f/Solution1.JPG"/>
          <p:cNvPicPr/>
          <p:nvPr/>
        </p:nvPicPr>
        <p:blipFill>
          <a:blip r:embed="rId1"/>
          <a:stretch/>
        </p:blipFill>
        <p:spPr>
          <a:xfrm>
            <a:off x="2362320" y="914400"/>
            <a:ext cx="505764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2</a:t>
            </a:r>
            <a:endParaRPr b="0" lang="en-US" sz="4000" spc="-1" strike="noStrike">
              <a:solidFill>
                <a:srgbClr val="c1eeff"/>
              </a:solidFill>
              <a:latin typeface="Consolas"/>
            </a:endParaRPr>
          </a:p>
        </p:txBody>
      </p:sp>
      <p:sp>
        <p:nvSpPr>
          <p:cNvPr id="412" name=""/>
          <p:cNvSpPr txBox="1"/>
          <p:nvPr/>
        </p:nvSpPr>
        <p:spPr>
          <a:xfrm>
            <a:off x="838080" y="1371600"/>
            <a:ext cx="7772400" cy="4572000"/>
          </a:xfrm>
          <a:prstGeom prst="rect">
            <a:avLst/>
          </a:prstGeom>
          <a:noFill/>
          <a:ln w="0">
            <a:noFill/>
          </a:ln>
        </p:spPr>
        <p:txBody>
          <a:bodyPr anchor="t">
            <a:normAutofit fontScale="88000"/>
          </a:bodyPr>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r this case study, the task is of constructing the design elements for a system that can be used to manage courses and classes for an organization that specializes in providing training. The name of the system is Courseware System. The organization offers courses in a variety of areas such as learning management techniques and understanding different software languages and technologies. Each course is made up of a set of topics. Tutors in the organization are assigned courses to teach according to the area that they specialize in and their availability. The organization publishes and maintains a calendar of the different courses and the assigns tutors every year.</a:t>
            </a:r>
            <a:endParaRPr b="0" lang="en-US" sz="2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a group of course administrators in the organization who manage the courses including course content, assigning courses to tutors, and defining the course schedule. The training organization aims to use the Courseware System to get a better control and visibility to the course management and to also streamline the process of generating and managing schedules for different </a:t>
            </a:r>
            <a:r>
              <a:rPr b="0" lang="en-US" sz="1800" spc="-1" strike="noStrike">
                <a:solidFill>
                  <a:srgbClr val="ffffff"/>
                </a:solidFill>
                <a:latin typeface="Corbel"/>
              </a:rPr>
              <a:t>courses</a:t>
            </a:r>
            <a:r>
              <a:rPr b="0" lang="en-US" sz="1600" spc="-1" strike="noStrike">
                <a:solidFill>
                  <a:srgbClr val="ffffff"/>
                </a:solidFill>
                <a:latin typeface="Corbel"/>
              </a:rPr>
              <a:t>.</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
          <p:cNvPicPr/>
          <p:nvPr/>
        </p:nvPicPr>
        <p:blipFill>
          <a:blip r:embed="rId1"/>
          <a:stretch/>
        </p:blipFill>
        <p:spPr>
          <a:xfrm>
            <a:off x="914400" y="533520"/>
            <a:ext cx="7743960" cy="578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3</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8" name="Picture 2" descr="http://wiki.ucalgary.ca/images/0/0f/Problemstatement2.JPG"/>
          <p:cNvPicPr/>
          <p:nvPr/>
        </p:nvPicPr>
        <p:blipFill>
          <a:blip r:embed="rId1"/>
          <a:stretch/>
        </p:blipFill>
        <p:spPr>
          <a:xfrm>
            <a:off x="439560" y="1600200"/>
            <a:ext cx="85521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iagram</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scription of a system’s behavior as it responds to a request that originates from outside of that system.</a:t>
            </a:r>
            <a:endParaRPr b="0" lang="en-US" sz="3000" spc="-1" strike="noStrike">
              <a:solidFill>
                <a:srgbClr val="ffffff"/>
              </a:solidFill>
              <a:latin typeface="Corbel"/>
            </a:endParaRPr>
          </a:p>
        </p:txBody>
      </p:sp>
      <p:sp>
        <p:nvSpPr>
          <p:cNvPr id="379" name="TextBox 3"/>
          <p:cNvSpPr/>
          <p:nvPr/>
        </p:nvSpPr>
        <p:spPr>
          <a:xfrm>
            <a:off x="3048120" y="419112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pecifies the “What” not the “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835200" y="835200"/>
            <a:ext cx="78642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ctors</a:t>
            </a:r>
            <a:br>
              <a:rPr sz="4000"/>
            </a:b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xternal to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act with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external entities</a:t>
            </a:r>
            <a:endParaRPr b="0" lang="en-US" sz="3000" spc="-1" strike="noStrike">
              <a:solidFill>
                <a:srgbClr val="ffffff"/>
              </a:solidFill>
              <a:latin typeface="Corbel"/>
            </a:endParaRPr>
          </a:p>
        </p:txBody>
      </p:sp>
      <p:pic>
        <p:nvPicPr>
          <p:cNvPr id="383" name="Picture 3" descr=""/>
          <p:cNvPicPr/>
          <p:nvPr/>
        </p:nvPicPr>
        <p:blipFill>
          <a:blip r:embed="rId1"/>
          <a:stretch/>
        </p:blipFill>
        <p:spPr>
          <a:xfrm>
            <a:off x="7620120" y="457200"/>
            <a:ext cx="1123920" cy="1463760"/>
          </a:xfrm>
          <a:prstGeom prst="rect">
            <a:avLst/>
          </a:prstGeom>
          <a:ln w="0">
            <a:noFill/>
          </a:ln>
        </p:spPr>
      </p:pic>
      <p:pic>
        <p:nvPicPr>
          <p:cNvPr id="384" name="Picture 4" descr=""/>
          <p:cNvPicPr/>
          <p:nvPr/>
        </p:nvPicPr>
        <p:blipFill>
          <a:blip r:embed="rId2"/>
          <a:stretch/>
        </p:blipFill>
        <p:spPr>
          <a:xfrm>
            <a:off x="1066680" y="4343400"/>
            <a:ext cx="1379520" cy="1371600"/>
          </a:xfrm>
          <a:prstGeom prst="rect">
            <a:avLst/>
          </a:prstGeom>
          <a:ln w="0">
            <a:noFill/>
          </a:ln>
        </p:spPr>
      </p:pic>
      <p:pic>
        <p:nvPicPr>
          <p:cNvPr id="385" name="Picture 5" descr=""/>
          <p:cNvPicPr/>
          <p:nvPr/>
        </p:nvPicPr>
        <p:blipFill>
          <a:blip r:embed="rId3"/>
          <a:stretch/>
        </p:blipFill>
        <p:spPr>
          <a:xfrm>
            <a:off x="2895480" y="4114800"/>
            <a:ext cx="1143000" cy="1685880"/>
          </a:xfrm>
          <a:prstGeom prst="rect">
            <a:avLst/>
          </a:prstGeom>
          <a:ln w="0">
            <a:noFill/>
          </a:ln>
        </p:spPr>
      </p:pic>
      <p:pic>
        <p:nvPicPr>
          <p:cNvPr id="386" name="Picture 6" descr=""/>
          <p:cNvPicPr/>
          <p:nvPr/>
        </p:nvPicPr>
        <p:blipFill>
          <a:blip r:embed="rId4"/>
          <a:stretch/>
        </p:blipFill>
        <p:spPr>
          <a:xfrm>
            <a:off x="4495680" y="4191120"/>
            <a:ext cx="1400400" cy="1600200"/>
          </a:xfrm>
          <a:prstGeom prst="rect">
            <a:avLst/>
          </a:prstGeom>
          <a:ln w="0">
            <a:noFill/>
          </a:ln>
        </p:spPr>
      </p:pic>
      <p:pic>
        <p:nvPicPr>
          <p:cNvPr id="387" name="Picture 7" descr="server.jpg"/>
          <p:cNvPicPr/>
          <p:nvPr/>
        </p:nvPicPr>
        <p:blipFill>
          <a:blip r:embed="rId5"/>
          <a:stretch/>
        </p:blipFill>
        <p:spPr>
          <a:xfrm>
            <a:off x="6400800" y="4038480"/>
            <a:ext cx="692280" cy="17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ervices the system can perfo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unctiona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n describe a sequence of a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p-level servi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Picture 3" descr=""/>
          <p:cNvPicPr/>
          <p:nvPr/>
        </p:nvPicPr>
        <p:blipFill>
          <a:blip r:embed="rId1"/>
          <a:srcRect l="3901" t="6394" r="3429" b="0"/>
          <a:stretch/>
        </p:blipFill>
        <p:spPr>
          <a:xfrm>
            <a:off x="3352680" y="4495680"/>
            <a:ext cx="205740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ssociations</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that represent relationships between actors and use ca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5" name="Picture 2" descr=""/>
          <p:cNvPicPr/>
          <p:nvPr/>
        </p:nvPicPr>
        <p:blipFill>
          <a:blip r:embed="rId1"/>
          <a:srcRect l="0" t="0" r="0" b="58097"/>
          <a:stretch/>
        </p:blipFill>
        <p:spPr>
          <a:xfrm>
            <a:off x="1600200" y="1219320"/>
            <a:ext cx="61707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Picture 2" descr=""/>
          <p:cNvPicPr/>
          <p:nvPr/>
        </p:nvPicPr>
        <p:blipFill>
          <a:blip r:embed="rId1"/>
          <a:stretch/>
        </p:blipFill>
        <p:spPr>
          <a:xfrm>
            <a:off x="1623960" y="1590840"/>
            <a:ext cx="5896080" cy="36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1" name="Picture 2" descr=""/>
          <p:cNvPicPr/>
          <p:nvPr/>
        </p:nvPicPr>
        <p:blipFill>
          <a:blip r:embed="rId1"/>
          <a:stretch/>
        </p:blipFill>
        <p:spPr>
          <a:xfrm>
            <a:off x="914400" y="1143000"/>
            <a:ext cx="796932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1:41:11Z</dcterms:created>
  <dc:creator>mshouman</dc:creator>
  <dc:description/>
  <dc:language>en-US</dc:language>
  <cp:lastModifiedBy>mshouman</cp:lastModifiedBy>
  <dcterms:modified xsi:type="dcterms:W3CDTF">2009-03-30T19:41:41Z</dcterms:modified>
  <cp:revision>23</cp:revision>
  <dc:subject/>
  <dc:title>UML Use Cases</dc:title>
</cp:coreProperties>
</file>